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081-FE10-4882-A1B0-AE721C82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297-F701-422E-AD25-5A2D433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0B6-B3EC-49E3-AEF7-12D9BC87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8B5-74E6-4324-ACF0-0A0F3776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66C-BB3B-4F14-9FC0-2C97E4F0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CC4-D4DD-43D0-92E6-BE51EFC5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ABC-176A-426D-9EFB-1C4DEB7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095-E833-48F8-84B4-DF49F93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C3A-6A69-4834-85C4-4608D59A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15D-8891-4FED-9EB9-EF30694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E2F-8588-4B6E-8E89-CF1377B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286-11BE-443A-9031-823CCA2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E0685-0BD7-485C-BA26-6AA31FECC6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ybboel Mi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3042" t="4345" r="8694" b="0"/>
          <a:stretch/>
        </p:blipFill>
        <p:spPr>
          <a:xfrm>
            <a:off x="254160" y="1900080"/>
            <a:ext cx="4425840" cy="475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The Mill is built in 17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1800 the mill was struck by lightning and burned down. It was rebuilt immediately af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both Schleswig wars 1848-50 and 1864 it was destroyed and rebu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1935 it was burned down after a short circuit, but was rebuilt in its present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Until 1990 the mill milled g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Now the mill is used as a museum.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096920" y="-658800"/>
            <a:ext cx="98121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omic Sans MS"/>
              </a:rPr>
              <a:t>The Battle of Dybboel mill:</a:t>
            </a: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 Dybboel mill was  in the middle of 2 wars. The 18 April 1864 accurate at 10 o'clock, 37.000  Prussian soldiers attacked  Danish soldiers they were only about 11.000. The danish soldiers stood for 6 hours, then the nearest redoubts were bombed with 7900 grenades from the Prussian batteries which consisted of over 100 canons. The Danish soldiers stood against for 4 hours, before they withdrew to 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80360" y="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ere we see Dybboel mill , and 3 stones wich are memorial war mon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Dybboe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720" y="2340000"/>
            <a:ext cx="720720" cy="144000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42920" y="16272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This is Cristia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de-DE" sz="2800" spc="-1" strike="noStrike" baseline="33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 k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Denm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On the mon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it says: With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for hono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14:04Z</dcterms:created>
  <dc:creator/>
  <dc:description/>
  <dc:language>en-US</dc:language>
  <cp:lastModifiedBy/>
  <dcterms:modified xsi:type="dcterms:W3CDTF">2010-04-13T08:01:37Z</dcterms:modified>
  <cp:revision>3</cp:revision>
  <dc:subject/>
  <dc:title/>
</cp:coreProperties>
</file>